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E8E-B68D-4262-B454-0A9620B0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476-72B0-46B6-89BD-9D2B6B71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395-CD07-4E04-AD30-01FC29A4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E9A-CE9B-45BF-AF87-570EFBDC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4881-F1FE-4794-8FC7-4618C601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1914-88B4-4701-932C-031150E5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B8A5-3E8A-4D73-95A3-D6E2C98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09A8-FFD6-465B-AE30-56FD92FC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2B7D-BC10-4D8B-BCCD-CE56BC0F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7233-4FF4-458B-A616-74417CB5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39C4-090C-4EB9-9A62-219E643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AF2-1674-4752-97AD-0FBC0954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EC1D-F50F-4856-AB5B-E2205BD1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717C-44D2-4FA4-9D6A-67739E5E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F82C-04DD-4F3C-91D5-E55B7BC8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94A5-BC07-4043-9600-9295A591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CB7E-0F12-4694-A7EE-E023E9CE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1CA-DE35-4438-A176-4F6020C5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8C0-5F9B-4B5F-91B2-FF918410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D54-B005-41F1-91A2-A9AB18B8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26C-1A51-4ADC-8CC8-7F9F453B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B9E-F80B-42D5-9954-837C1FE6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5CC-5884-45D5-9D06-48C3DF0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EBF-34EE-419D-B7FD-419A0639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D728-3D83-49A4-84C6-9463BE210B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D0AE-37EF-4488-9197-1CD7D8778B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parama.lt/es_parama_pletra/failai/fm/teises_aktai/Stebesenos_komiteto_nutarimai/VP1-2009-05-18-1.pdf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38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Lietuvos 2007–2013 m. ES struktūrinės paramos panaudojimo strategija ir veiksmų programos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6666"/>
                </a:solidFill>
                <a:latin typeface="Arial"/>
              </a:rPr>
              <a:t>Kas yra ES struktūrinė parama?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uropos Sąjungos struktūrinė parama nuosekliai mažina socialinius ir ekonominius skirtumus tarp ES šalių narių ar atskirų regionų. </a:t>
            </a:r>
            <a:r>
              <a:rPr b="0" lang="pt-PT" sz="2800" spc="-1" strike="noStrike">
                <a:solidFill>
                  <a:srgbClr val="006666"/>
                </a:solidFill>
                <a:latin typeface="Arial"/>
              </a:rPr>
              <a:t>Jos pamatin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ė</a:t>
            </a:r>
            <a:r>
              <a:rPr b="0" lang="pt-PT" sz="2800" spc="-1" strike="noStrike">
                <a:solidFill>
                  <a:srgbClr val="006666"/>
                </a:solidFill>
                <a:latin typeface="Arial"/>
              </a:rPr>
              <a:t>s vertyb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ė</a:t>
            </a:r>
            <a:r>
              <a:rPr b="0" lang="pt-PT" sz="2800" spc="-1" strike="noStrike">
                <a:solidFill>
                  <a:srgbClr val="006666"/>
                </a:solidFill>
                <a:latin typeface="Arial"/>
              </a:rPr>
              <a:t>s– „solidarumas“ ir „sanglauda“.</a:t>
            </a:r>
            <a:r>
              <a:rPr b="0" lang="pt-PT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410080"/>
            <a:ext cx="3733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Atestuota</a:t>
            </a:r>
            <a:r>
              <a:rPr b="0" lang="lt-LT" sz="1600" spc="-1" strike="noStrike">
                <a:solidFill>
                  <a:srgbClr val="006666"/>
                </a:solidFill>
                <a:latin typeface="Arial"/>
              </a:rPr>
              <a:t> inžinierė Vilma Mockaitienė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6666"/>
                </a:solidFill>
                <a:latin typeface="Arial"/>
              </a:rPr>
              <a:t>Tel. 8-620-2970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6666"/>
                </a:solidFill>
                <a:latin typeface="Arial"/>
              </a:rPr>
              <a:t>v.mockaitiene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@gmail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04960" y="9572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66"/>
                </a:solidFill>
                <a:latin typeface="Arial"/>
              </a:rPr>
              <a:t>ES struktūrinės paramos panaudojimo tikslas</a:t>
            </a: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parčiai gerinti sąlygas investuoti, dirbti ir gyventi Lietuvoje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d ūkio augimo teikiama nauda pasiektų visus Lietuvos gyventoj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urti patrauklią aplinką gyventi ir dirbti kaimo vietovėse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4680" y="890640"/>
            <a:ext cx="7818840" cy="7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6666"/>
                </a:solidFill>
                <a:latin typeface="Arial"/>
              </a:rPr>
              <a:t>Fondų paramos prioritetinės temo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1) Produktyvūs žmogiškieji ištekliai žinių visuomen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2) Konkurencinga ekonom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3) Gyvenimo kokybė ir sanglau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Žmogiškųjų išteklių plėtros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kirta visų darbingo amžiaus Lietuvos gyventojų mobilizavimui, nes investicijos į Lietuvos žmonių žinias, gebėjimus, aktyvumą, verslumą patikimai garantuoja ilgalaikį ūkio augim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6666"/>
                </a:solidFill>
                <a:latin typeface="Arial"/>
              </a:rPr>
              <a:t>Ekonomikos augimo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umatoma skirti didžiausią paramos lėšų dalį. Net 10 proc. lėšų numatoma skiri ūkio konkurencingumui ir ekonomikos augimui skirtiems moksliniams tyrimams ir technologinei plėtra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6666"/>
                </a:solidFill>
                <a:latin typeface="Arial"/>
              </a:rPr>
              <a:t>Sanglaudos skatinimo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uri įgyvendinti viziją apie darnesnę visuomenę. Taigi gyvenimo aplinkos ir kokybės gerinimui, mažinant atskirų regionų skirtum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6666"/>
                </a:solidFill>
                <a:latin typeface="Arial"/>
              </a:rPr>
              <a:t>Techninės paramos veiksmų programa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pecialioji, papildoma  veiksmų programa, skirta administruoti teminėms veiksmų programom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04960" y="9572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www.esparama.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15176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as</cp:lastModifiedBy>
  <dcterms:modified xsi:type="dcterms:W3CDTF">2011-01-09T12:31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