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928225" cy="6778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9AB-CE73-4D6E-93FD-AC0630FF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E9C-96A6-48FF-BC4B-63AAB542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AFB-9810-4CC0-A431-8C4A6F13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099-B374-4954-B776-CDEF2ABD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09A-0C35-4B39-883D-8318C58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532-CECA-40EB-BC95-800C8B3B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E25-12C8-4462-AA1D-4FF7EFD5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300-8B17-44C1-9869-7A60D957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82E-923D-4A56-BEF9-93B1C1A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7AB-3484-4AE5-81DF-5062AA5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7B4-CC30-4058-B793-30203BE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25E-D564-4C47-A872-22CA332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65E-36D6-49E6-98A7-121462C4CA75}" type="datetime3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28 d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240-C330-4E5D-AC19-882518EE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773360"/>
            <a:ext cx="8569440" cy="30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KLAUSYTOJĄ/AUDITORIJĄ ORIENTUOTOS VIEŠOSIOS KALBOS PARENGIMAS IR REALIZAVI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ktorius doc. dr. Artūras Blinstru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EE8-DB9C-43C1-AD50-63AF0BADFA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1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jūs toks? (prisistatymas kaip patyrimo ir išmanymo patvirtini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e KĄ ketinate kalbė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DA baig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aš turėčiau klausytis arba KAS man iš 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P jūs ketinate sudominti šia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27664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atsakymas į auditorijai natūraliai kylančius klausim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E9B-AB6E-4DA8-A010-003A10C3AD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2):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INĖ D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7854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nį apsprendžia kalbos rūšis: informavimo, įtikinimo, progi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itelkti į du ar tris pagrindinius kalbos komponen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akyti ir parodyti bei pademonstru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aikytis aiškios struktūros. Naudoti per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ėt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lausytoju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o n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kaitytoj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205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išdėstyti temą ir išlaikyti auditorijos dėmes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B33-A2CE-4CDE-BC8A-E2B9CE720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3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BAIG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isa gerai, kas gerai baigias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umpas, originalus pakartojimas-apibendrinimas to kas kalbėt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frazės-šablonai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baigiant, apibendrinant, reziumuojan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spektyvos atvėrimas, paskatinimas veik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tsakymas į auditorijai kirbantį klausimą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as man iš to?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ai-atsaky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ro galutinio įspūdžio pali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27664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klausytojo psichologinio poreikio pabaigai patenkin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BD6-B801-42AF-8174-4C95778404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4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ĖJIMAI</a:t>
            </a:r>
            <a:br>
              <a:rPr sz="3200"/>
            </a:b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erėjimai - tai “klijai” laikantys visas kalbos dal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sekliai, rūpestingai vesti klausytojus nuo vienos idėjos ar dalies prie k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ziumuoti, pateikti tarpines išvadas, trumpus ano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 būti panaudoti dėmesiui atkreip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gali tarnauti ne tik kaip stimulai, skelbiantys auditorijai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ji buvo a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dabar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bet ir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link eis toliau)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27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erėjimų funkcij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332-C200-4C6E-97D0-70168B449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628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149720"/>
            <a:ext cx="676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 AUDITORIJĄ ORIENTUOTO PRANEŠĖJO ATRIBUTAI (dalyko išmanymas, baimės įveikimas, sugebėjimas pelnyti auditorijos pasitikėjimą, aprang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ALBOS STILIAUS ASPEKTAI (balsas, akių kontaktas, mimika, poza, gestai, manieros, hum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FF6-B13E-4E5A-9C0E-BC034BC192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1)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ote gerai nusimanyti apie tai, ką kal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išmanyti viešojo kalbėjimo pagri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suprasti svarbiausius psichoedukacinius suaugusiųjų auditorijos ypatumu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37000"/>
            <a:ext cx="619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6FE-74B0-41C8-B745-63D393F28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3349800"/>
            <a:ext cx="860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dėl bijome kalbėti...? Kas mums darosi kai nerimaujame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ktikavimasis ir repetav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kymasis tinkamai kvėpuo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kofeino ir niko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Įžanga “be popieriaus”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2349360"/>
            <a:ext cx="8064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Nerimo ir auditorijos baimės valdymas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Blogai yra ne nervai – blogai yra nesugebėti jų tramdy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E90-BC19-41AB-A2ED-71BEE5EDA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6058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dėl pasitikėjimas neretai prilygsta įtikėjim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sitikėjimas kyla ne iš kalbėtojo, o iš klausyt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niai pasitikėjimo kalbėtoju aspek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45B-14E0-4509-9B01-B9346C55E9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6058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sminiai veiksniai, lemiantys pasitikėjim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arakteris (sąžiningumas, nuoširdumas, patikimu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man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amu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aig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veikas ekstravertiškum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684-40AC-49CD-A729-3F092A56A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5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880" y="3429000"/>
            <a:ext cx="8947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ranga – pranešimo dalis. Ji turi įsilieti į kalbą, o ne išsiskir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iškumas, konservatyvumas, patogumas, tvarkingu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dėmesį atitraukiančių papuošalų, daiktais “išpūstų” kišeni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Bendras reikalavimas aprangai – vienu laipteliu aukščiau nei vyraujanti auditorijoj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349360"/>
            <a:ext cx="828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Apranga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Žmonės daro visų rūšių sprendimus, žiūrėdami į aprang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78A-1254-4D00-959E-C5DFDF5EA5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708280"/>
            <a:ext cx="86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augusiųjų auditorijos specif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engimas praneši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ešimo struktū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izdinės priemon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SKAITOS DA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4A9-D3E8-49E4-A347-47F1D0255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1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6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eitis. Kalbėjimo tempo derinimas su balso ritmu ir stipr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rsumas ir jo kaitaliojimas. Monoton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tikuliacija ir jos lav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uz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Bals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0F0-AECE-4738-813D-B7C96F23AE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461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esminis pasitikėjimo veiks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oficiali bendravimo pradž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pagrindinė auditorijos būklės diagnostikos ir kalbos korekcijos priemo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ūk “paieškos prožektorius”, o ne “lazer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ir skait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Akių kontakt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813-9E9D-4F43-84A2-DE1F0E0345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4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mikos reikšmė. Šypsena ir jos “dozav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a: stovėsena, sėdė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nkami ir netinkami ges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nieros. Klausytoją erzinantys įpro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verbalinis auditorijos elges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Kūno kalba: mimika, poza, gestai, maniero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282-A6FE-4605-A0D9-092C3AB94C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84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os paįvairinimas sąmojais - labai subtilu, situatyvu ir individu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aipykitės iš savęs, o ne iš auditor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etninio, rasinio, seksualinio, vulgaraus humoro, sarkaz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iai nutikimai – puiki medžiaga humor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Humora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DF4-A839-4799-A882-C15663045F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9280" y="1773360"/>
            <a:ext cx="856944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5013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IŠVA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2. DEMON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8E1-FAAB-42B4-A425-0378D0D36A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VAIZD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880" y="2924280"/>
            <a:ext cx="894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žiūrim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formatyv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ast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izdų-žodžių santykio optimal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ptimalus teksto kiekis (nuo 4x4 iki... 7x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ejimas su pranešimu. Skaidrės - ne skaitiniai. Jos turi atspindėti pagrindinį eskiz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22E-8727-4116-BDD6-F8DD403C01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MONSTRAV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880" y="3141720"/>
            <a:ext cx="894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ankstinis pasireng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idrių skaičiaus optimal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avimasis į klausytoją, o ne į priemo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monstravimo skland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96C-63CC-4C6A-BB71-15FF3AB70C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Literatūra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7678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Collins, J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aip įtaigiai kalbėti ir veikti auditoriją: tobulesnio mąstymo ir darbo būtinasis vadov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Knygų spekt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Kushner, M. (1999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Tobula kalba žaliem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Smaltijos leidykl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Nauckūnaitė, Z. (2000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Iškalbos mokymas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. Švi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akšienė, V., Gutauskienė, A. (2001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Debatai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Šviesa.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as, A. (2003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Kaunas: Dajal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Pečiulis, Ž. (2004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Efektyvi komunikacij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ersus aure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Spies, S. (2006). 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Kūno kalba.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 Vilnius: Va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лдин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(2001)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сихология влияния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Перевод с англ. – Санкт-Петербург: Пи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E6E-1F00-4ED2-9EA6-7737F4E3E3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773360"/>
            <a:ext cx="856944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AUGUSIŲJŲ AUDITORIJOS SPECIFIK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436-0C41-4384-8EC9-8558418C1E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aiškų tikslą (...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o aš čia sėdžiu?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rangina sav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uoti į problemų sprendi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sta patirti sėkmę, būti pastebėti, pripaž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patirtį, kuri padeda arba... truk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etai yra skeptiški, ypač naujos informacijos atžvil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a... 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F8A-5B5F-47A7-B149-14D18AF32F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ėjas įvertins ir sugebės pasinaudoti dalyvių sukaupta gyvenimo patirti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i ryšiai (sąveika) tarp dalyvių bei tarp pranešimo informacinio turinio ir dalyvių profesinės veiklos, interes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iamą informaciją dalyviai galės įgyvendinti praktiko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lyviai turės galimybę įtakoti pranešimo eigą ar mokymosi proces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a saugumo, pagarbos ir komforto atmosfe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darytos sąlygos dalyviams patirti sėkm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2050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ranešimas, mokymai suaugusiesiems bus sėkmingesni jei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2EA-DFF1-4CED-BD57-BE826F1649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2421000"/>
            <a:ext cx="8569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ENGIMAS KAL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33D-9FD5-4641-96E8-433F44D88B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dalyvau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ą jie nori išgir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kalbėsiu ir ką noriu pasaky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ek la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 ir kokiomis sąlygo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kiomis priemonė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lausimai į kuriuos reikia atsaky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D64-19DB-4689-9035-748364E6FD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v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pie objektus, įvykius, procesus, sąvokas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ikin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atriotinės, politinės, moralinės etinės, justicinės, komercinė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inė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ristatymas, apdovanojimas, padėka, sveikinimas, tostas, pramoginė kal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albų rūš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832-C2C9-4532-80F3-D097C19950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628640"/>
            <a:ext cx="856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LBOS STRUKTŪ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Jūs lakūnas, o Jūsų kalba – lėktuvo pilotavimas PAKYLANT..., SKRENDANT... ir NUSILEIDŽIANT..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4508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IDURINĖ (PAGRINDINĖ) 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B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ERĖJI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B26-8E0F-444B-B036-DAB1F419C7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2:29:57Z</dcterms:created>
  <dc:creator>Audrius</dc:creator>
  <dc:description/>
  <dc:language>en-US</dc:language>
  <cp:lastModifiedBy>Vartotojas</cp:lastModifiedBy>
  <dcterms:modified xsi:type="dcterms:W3CDTF">2011-01-19T13:19:46Z</dcterms:modified>
  <cp:revision>221</cp:revision>
  <dc:subject/>
  <dc:title>Slide 1</dc:title>
</cp:coreProperties>
</file>