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7862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391B-9394-4AB5-9FDB-F7DE5A686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392E-3709-40AD-A534-096CCF70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611C-C815-4E7A-AA5C-9B47B9DFF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3446-644A-46E2-BAFD-FA8AA2291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0447-5404-4177-9E6A-BF1EA5A3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28B6-2EB1-4380-B84D-E0237033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B8A3-55FB-487B-80DF-837D08B0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5BBB-4676-485A-9E04-E13FB15F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5E8A-3191-4CA3-A072-0F5F0CA0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CE84-15EC-427E-9C97-190A0545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2E64-6EF9-40C9-8A1B-644C3FFE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4392-C502-481F-9EA3-AA82A651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630C-227E-4B2B-AA18-64D1827F5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Arial"/>
              </a:rPr>
              <a:t>DOKUMENTŲ VALDYMAS </a:t>
            </a:r>
            <a:br>
              <a:rPr sz="4000"/>
            </a:b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Vilma Šablinskienė</a:t>
            </a:r>
            <a:br>
              <a:rPr sz="1600"/>
            </a:b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2010-11-17</a:t>
            </a:r>
            <a:br>
              <a:rPr sz="4000"/>
            </a:br>
            <a:r>
              <a:rPr b="1" lang="lt-LT" sz="4000" spc="-1" strike="noStrike">
                <a:solidFill>
                  <a:srgbClr val="000000"/>
                </a:solidFill>
                <a:latin typeface="Arial"/>
              </a:rPr>
              <a:t>Dokumentas 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(lot. </a:t>
            </a:r>
            <a:r>
              <a:rPr b="0" i="1" lang="lt-LT" sz="4000" spc="-1" strike="noStrike">
                <a:solidFill>
                  <a:srgbClr val="000000"/>
                </a:solidFill>
                <a:latin typeface="Arial"/>
              </a:rPr>
              <a:t>documentum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Pamokantis pavyzdys, liudijimas, įrodymas. Tai priemon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įvairiais būdais ant specialios medžiagos fiksuoti informaciją ap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faktus, įvykius, objektyvios tikrovės reiškinius ir žmogaus mąstym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veikl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u dokumento sąvoka susiję ir terminai: dokumentavima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dokumentų apyvarta, dokumentų valdymas (nuo 2005 metų pakeit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ąvoką 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raštvedyba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Atsižvelgiant į naujoves, kurios pradėtos taikyti pasaulyje darbo s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dokumentais srityje, Tarptautinė standartų organizacija siūlo nauj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dokumento sąvokos apibrėžim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Dokumentas – informacijos laikmena ir šioje laikmeno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užfiksuoti pastovūs duomenys, kuriuos gali perskaityti žmog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arba mašina.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Arial"/>
              </a:rPr>
              <a:t>Dokumentų spausdini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Dokumentai spausdinami vienoje lapo pusėje, jei kiti teisė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aktai nenustato kitai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Dokumentai, kuriems nustatytas ne ilgesnis nei 25 met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augojimo terminas, gali būti spausdinami abiejose lapo pusė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Dokumento, spausdinamo keliuose lapuose, numeruoja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antras ir tolesni lapai, jei kiti teisės aktai nenustato kitaip. Lapa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numeruojami viršutinės paraštės viduryje arabiškais skaitmenimis 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taškų ir brūkšnelių. Dokumento lapai gali būti numeruojami nurod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lapo numerį ir bendrą dokumento lapų skaičių, pvz.: 1-5 (1 – la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numeris, 5 – bendras dokumento lapų skaičiu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Dokumentų valdy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Įstaigų veikla, susijusi su valdymo veiklos dokumentavimu 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darbo su dokumentais organizavimu, vadinama įstaig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dokumentų valdym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Dokumentų valdymas apima visus darbo su dokumentais proces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- dokumentų rengimą ir įforminim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- spausdinimą ir dauginim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- korespondencijos priėmimą ir išsiuntim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- perdavimą įmonės viduj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- vykdymo kontrolę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- sisteminim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- parengimą saugojimui ir naudojimu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- informacijos apie dokumentus operatyvų pateikim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Dokumentų valdy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Dokumentų valdymas –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varbus valdymo 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elementas. Jis turi būti tvarkomas taip, kad padėtų organizuoti 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tobulinti valdymą. Gerai tvarkoma dokumentacija, racionalia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išnaudojami informacijos šaltiniai paspartina darbus, nesukeldam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tr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Ten, kur dokumentų valdymas apleistas, neišvengiama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usiduriama su nenumatytomis kliūtimis, nes netvarkingi dokumenta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gaišina laiką ir trukdo operatyviai dirbti. Kiekvienais metais kanceliarini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darbų apimtis vidutiniškai padidėja 1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Įmonėje turi būti nustatyta dokumentų sudarymo ir darbo 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jais 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vieninga tvarka,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kuri gali būti patvirtinta dokumentų valdym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instrukcij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Arial"/>
              </a:rPr>
              <a:t>Dokumentų valdymo </a:t>
            </a:r>
            <a:br>
              <a:rPr sz="4000"/>
            </a:br>
            <a:r>
              <a:rPr b="1" lang="lt-LT" sz="4000" spc="-1" strike="noStrike">
                <a:solidFill>
                  <a:srgbClr val="000000"/>
                </a:solidFill>
                <a:latin typeface="Arial"/>
              </a:rPr>
              <a:t>organizavimo tiksla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. Pačios įstaigos ir kitų asmenų poreikiams tenkin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2. Apsaugoti nuo sugadinimo, prarad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3. Apsaugoti nuo neteisėto naudojimo, pakeitimo, naikin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LR dokumentų ir archyvų įstatymo 10 straipsnio nuostata: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“Valstybės ir savivaldybės institucijos, įstaigos ir įmonės veiklos dokumentai turi būti efektyviai valdomi ir prieinami jos pačios ir kitų asmenų poreikiams tenkinti, apsaugoti nuo sugadinimo, praradimo, neteisėto naudojimo, pakeitimo, naikin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Arial"/>
              </a:rPr>
              <a:t>Dokumentų valdymo organizavi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Dokumentų tvarkymo ir apskaitos taisyklėse nustatomi šie įmonės dokumentų valdymo organizavimo tiksla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1. Laiku ir kokybiškai parengti dokumen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2. Tvarkyti ir valdyti dokumentus taip, kad būtų užtikrintas greitas priėjimas prie visų turimų dokument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3. Užtikrinti skaidrią, efektyvią veiklą, administravimo ir atsiskaitymo gebėjim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4. Dokumentus išsaugoti reikiamą laiką, kad būtų užtikrinti įstaigos veiklos įrodymai ir su  įstaigos veikla susijusių fizinių bei juridinių asmenų teisė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Už įstaigos dokumentų valdymo organizavimą ir kontrolę y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atsakingas įstaigos vadovas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ar kitas teisės aktų suteiktus įgaliojim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turintis asmu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Arial"/>
              </a:rPr>
              <a:t>Dokumentų unifikavi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Dokumentų unifikavimas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(lot. </a:t>
            </a: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unif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vienodinu) – tai jų vienodinimas pa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nformacijos sudėtį ir dokumentų form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Unifikavimo tiksl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ustatyti dokumentus, reikaling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onkrečiai valdymo funkcija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uvienodinti dokumentų form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Unifikuoti dokumentų tekst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Arial"/>
              </a:rPr>
              <a:t>Dokumentų rengimo taisyklė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Pagrindinis norminis dokumenta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nustatantis bendruosius dokument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sudarymo reikalavimus, yra 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Dokument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rengimo taisyklė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Arial"/>
              </a:rPr>
              <a:t>Dokumentų skirsty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1. Teisės aktais tvirtinami dokumentai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Jie nustato pagrindines valstybės institucijų, įstaigų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organizacijų ar bendrijų veiklos normas. Tai nuostatai, įstatai (statutai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instrukcijos, taisyklės, nomenklatū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2. Teisės akta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Parodo įstaigos  valdymo veikl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Tai nutarimai, sprendimai, potvarkiai, įsakyma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3. Įstaigos rengiami dokumenta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kirti operatyviems reikalams tvarkyti, informaciją perduoti ar ja pasikeisti, faktams ar įvykiams fiksuoti, kai to negalima padaryti žodžiu. Aktai, apžvalgos, pažymos, pažymėjimai, protokolai, raštai, rekomendacijos (charakteristikos) ir t. 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Arial"/>
              </a:rPr>
              <a:t>Dokumentų spausdini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Jei kiti teisės aktai nenustato kitaip, naudojami ši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formatų popieriaus lapa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4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(210 x 297 mm),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5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(148 x 210 mm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5 L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(210x148 mm), paliekant tokio pločio paraš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airioji – 30 mm, dešinioji – ne mažesnė kaip 10 mm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viršutinė – ne mažesnė kaip 20 m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4 L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(297 x 210 mm), paliekant tokio pločio parašt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airioji – ne mažesnė kaip 20 mm, dešinioji – 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mažesnė kaip 10 mm, viršutinė – ne mažesnė kaip 30 mm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patinė – ne mažesnė kaip 20 m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12:34:06Z</dcterms:created>
  <dc:creator>Živilė</dc:creator>
  <dc:description/>
  <dc:language>en-US</dc:language>
  <cp:lastModifiedBy>Vartotojas</cp:lastModifiedBy>
  <dcterms:modified xsi:type="dcterms:W3CDTF">2010-11-16T12:58:51Z</dcterms:modified>
  <cp:revision>38</cp:revision>
  <dc:subject/>
  <dc:title>Slide 1</dc:title>
</cp:coreProperties>
</file>