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C5E3-F184-4088-BD23-16B07534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9C59-C648-476B-BCEB-E85D1422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320-2E78-46F6-899C-48480A92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09F-E226-449A-96D4-D5CBB28ED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CBE-A317-407B-90DE-FE6F7355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71E3-0FC7-4EE5-BFEF-9347EFD7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025A-377E-4899-B040-73337AAA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CB0-615E-4B87-BBF5-C520E2B6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9891-94EB-4B56-B94A-E9F426B05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D52-CBFA-4C97-A872-AFD6DBEE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65A-0B33-44F2-880F-E3FFD14C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AFBA-DECA-4D7F-9B47-A8E6AA2B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54C8-C733-4A39-A205-B40250416E32}" type="datetime3">
              <a:rPr b="0" lang="lt-LT" sz="1400" spc="-1" strike="noStrike">
                <a:solidFill>
                  <a:srgbClr val="000000"/>
                </a:solidFill>
                <a:latin typeface="Arial"/>
              </a:rPr>
              <a:t>2026 metų liepos 28 d.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AB1A-5A83-4C46-B6E1-068F50C56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3068640"/>
            <a:ext cx="85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EŠOSIOS KALBOS PARENGIMAS IR REALIZAVIM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4840" y="54338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arengė doc.dr. Artūras Blinstru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4200" y="13748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VIEŠAS KALBĖJIMAS IR PASITIKĖJIMAS SAVIMI BEI BENDRAVIMO ĮGŪDŽIŲ LAVINIMAS</a:t>
            </a:r>
            <a:r>
              <a:rPr b="0" i="1" lang="lt-L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79E2-6326-4E7E-BCC9-CEFDDAAF1B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1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jūs toks? (prisistatymas kaip patyrimo ir išmanymo patvirtini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pie KĄ ketinate kalbė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DA baigs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aš turėčiau klausytis arba KAS man iš t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P jūs ketinate sudominti šia 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2276640"/>
            <a:ext cx="889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atsakymas į auditorijai natūraliai kylančius klausim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9296-0B5E-44BB-82CC-AA6AE36D35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2):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URINĖ DAL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3141360"/>
            <a:ext cx="8785440" cy="32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nį apsprendžia kalbos rūšis: informavimo, įtikinimo, progi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sitelkti į du ar tris pagrindinius kalbos komponen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akyti ir parodyti bei pademonstruo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Laikytis aiškios struktūros. Naudoti perėjim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ėti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lausytojui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, o ne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skaitytoj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205000"/>
            <a:ext cx="820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išdėstyti temą ir išlaikyti auditorijos dėmes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3B1A-45C8-4830-A7BC-E9D34C642E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3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BAIGA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3200"/>
            </a:b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Visa gerai, kas gerai baigiasi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64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rumpas, originalus pakartojimas-apibendrinimas to kas kalbėta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frazės-šablonai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baigiant, apibendrinant, reziumuojant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erspektyvos atvėrimas, paskatinimas veik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tsakymas į auditorijai kirbantį klausimą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as man iš to?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lausimai-atsakym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ero galutinio įspūdžio palik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280" y="227664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Esmė - klausytojo psichologinio poreikio pabaigai patenkini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C02-FF4A-4FED-AB87-3E81BFD062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LBOS STRUKTŪRA (4):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ERĖJIMAI</a:t>
            </a:r>
            <a:br>
              <a:rPr sz="3200"/>
            </a:b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Perėjimai - tai “klijai” laikantys visas kalbos dal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osekliai, rūpestingai vesti klausytojus nuo vienos idėjos ar dalies prie k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ziumuoti, pateikti tarpines išvadas, trumpus anon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li būti panaudoti dėmesiui atkreipti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gali tarnauti ne tik kaip stimulai, skelbiantys auditorijai,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ji buvo ar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 dabar y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, bet ir </a:t>
            </a:r>
            <a:r>
              <a:rPr b="0" i="1" lang="lt-LT" sz="1800" spc="-1" strike="noStrike">
                <a:solidFill>
                  <a:srgbClr val="000000"/>
                </a:solidFill>
                <a:latin typeface="Arial"/>
              </a:rPr>
              <a:t>kurlink eis toliau)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2276640"/>
            <a:ext cx="8424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erėjimų funkcij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0E7-377F-4453-84F8-B84DE6D789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1628640"/>
            <a:ext cx="85694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58920" y="4149720"/>
            <a:ext cx="676908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 AUDITORIJĄ ORIENTUOTO PRANEŠĖJO ATRIBUTAI (dalyko išmanymas, baimės įveikimas, sugebėjimas pelnyti auditorijos pasitikėjimą, aprang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KALBOS STILIAUS ASPEKTAI (balsas, akių kontaktas, mimika, poza, gestai, manieros, humor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DE35-13AE-4C4C-AC0F-80401B542B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1)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4000" y="3428640"/>
            <a:ext cx="8640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ote gerai nusimanyti apie tai, ką kalb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išmanyti viešojo kalbėjimo pagrind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ivalu suprasti svarbiausius psichoedukacinius suaugusiųjų auditorijos ypatumu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2637000"/>
            <a:ext cx="6191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C8C-2DC6-487B-9FAA-F41780B145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3349800"/>
            <a:ext cx="86058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Kodėl bijome kalbėti...? Kas mums darosi kai nerimaujame...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o išmany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Praktikavimasis ir repetavi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Mokymasis tinkamai kvėpuo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kofeino ir nikotin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Įžanga “be popieriaus”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2349360"/>
            <a:ext cx="8064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Nerimo ir auditorijos baimės valdymas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Blogai yra ne nervai – blogai yra nesugebėti jų tramdy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5B99-EC74-4512-906E-9E8A078383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86058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odėl pasitikėjimas neretai prilygsta įtikėjimu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asitikėjimas kyla ne iš kalbėtojo, o iš auditor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Psichologiniai pasitikėjimo kalbėtoju aspekt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810D-59EF-42FB-A72F-D337FE3234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2997000"/>
            <a:ext cx="8605800" cy="27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586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Esminiai veiksniai, lemiantys pasitikėjim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Charakteris (sąžiningumas, nuoširdumas, patikimuma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man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amu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aig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-4586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veikas ekstravertiškuma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8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234936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Sugebėjimas pelnyti auditorijos pasitikėjimą.</a:t>
            </a:r>
            <a:r>
              <a:rPr b="1" lang="lt-LT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C9AD-9C1E-4634-ACB0-074323E988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NEŠĖJO ATRIBUTAI (5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880" y="3429000"/>
            <a:ext cx="8947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Apranga – pranešimo dalis. Ji turi įsilieti į kalbą, o ne išsiskir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Dalykiškumas, konservatyvumas, patogumas, tvarkingum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00000"/>
                </a:solidFill>
                <a:latin typeface="Arial"/>
              </a:rPr>
              <a:t>Vengti dėmesį atitraukiančių papuošalų, daiktais “išpūstų” kišenių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49360"/>
            <a:ext cx="828036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Apranga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Žmonės daro visų rūšių sprendimus, žiūrėdami į aprangą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A613-59A0-48BE-839D-6358F3EDA0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4000" y="2708280"/>
            <a:ext cx="86407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uaugusiųjų auditorijos specif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rengimas pranešim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anešimo struktū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 auditoriją orientuotas pranešėjas ir jo kalbos stil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aizdinės priemon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41300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ASKAITOS DAL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231-013E-4060-9D87-9E8E32F028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1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3141720"/>
            <a:ext cx="8605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reitis. Kalbėjimo tempo derinimas su balso ritmu ir stiprum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Garsumas ir jo kaitaliojimas. Monoton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rtikuliacija ir jos lavin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uzė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1. Bals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EA0-AFB0-41C3-B476-E225938EBE0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2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3068280"/>
            <a:ext cx="8461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esminis pasitikėjimo veiksn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oficiali bendravimo pradž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kaip pagrindinė auditorijos būklės diagnostikos ir kalbos korekcijos priemon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ūk “paieškos prožektorius”, o ne “lazeri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K ir skaity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24210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2. Akių kontaktas.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77E1-B364-4165-B617-12BE487445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3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3213000"/>
            <a:ext cx="8461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imikos reikšmė. Šypsena ir jos “dozavima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oza: stovėsena, sėdėse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inkami ir netinkami gest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anieros. Klausytoją erzinantys įproči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verbalinis auditorijos elges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3. Kūno kalba: mimika, poza, gestai, maniero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5BD-F967-43C4-9237-294DC8E626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240" y="1125000"/>
            <a:ext cx="90439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RANEŠĖJAS IR JO KALBOS STILIU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LBOS STILIAUS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(LYGIAGREČIOS KALBOS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ASPEKTAI (4)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3284280"/>
            <a:ext cx="8461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lbos paįvairinimas sąmojais - labai subtilu, situatyvu ir individua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asijuokite iš savęs, o ne iš auditor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engti etninio, rasinio, seksualinio, vulgaraus humoro, sarkaz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Asmeniniai nutikimai – puiki medžiaga humor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249228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4. Humoras.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062-D2E7-4A16-B2FF-886BA8C5F8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773360"/>
            <a:ext cx="8569440" cy="23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Pati svarbiausia vaizdinė priemonė - JŪ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48000" y="5013360"/>
            <a:ext cx="295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IŠVAIZ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2. DEMONSTRAVI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8BD-388E-48E1-910B-F4D41D2E814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VAIZDA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880" y="2924280"/>
            <a:ext cx="89470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Įžiūrim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Informatyv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prast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Vaizdų-žodžių santykio optimalu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Optimalus teksto kiekis (nuo 4x4 iki... 7x7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Susiejimas su pranešimu. Skaidrės - ne skaitiniai. Jos turi atspindėti pagrindinį eskiz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C044-A78D-4889-A45A-BFB0649650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341360"/>
            <a:ext cx="9043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AIZDINĖS PRIEMONĖ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EMONSTRAVIMAS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880" y="3141720"/>
            <a:ext cx="894708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šankstinis pasireng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Skaidrių skaičiaus optimal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avimasis į klausytoją, o ne į priemon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emonstravimo sklandu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34936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ompiuterinė grafika (skaidrės).</a:t>
            </a:r>
            <a:r>
              <a:rPr b="1" lang="lt-LT" sz="2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6B0-9311-4B6E-AB65-7217E589EFF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9280" y="1773360"/>
            <a:ext cx="856944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UAUGUSIŲJŲ AUDITORIJOS SPECIFIK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6AF4-75F1-4265-9E6D-90D6082F86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785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aiškų tikslą (...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ko aš čia sėdžiu?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rangina savo laik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rientuoti į problemų sprendim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Mėgsta patirti sėkmę, būti pastebėti, pripaž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Turi patirtį, kuri padeda arba... trukdo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eretai yra skeptiški, ypač naujų žinių atžvilgi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ta... 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10A-5854-4740-B152-989B04A411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1. SUAUGUSIŲJŲ AUDITORIJOS SPECIFIKA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8785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ranešėjas įvertins ir sugebės pasinaudoti dalyvių sukaupta gyvenimo patirti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i ryšiai (sąveika) tarp dalyvių bei tarp pranešimo informacinio turinio ir dalyvių profesinės veiklos, interesų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pateikiamą informaciją dalyviai galės įgyvendinti praktiko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dalyviai turės galimybę įtakoti pranešimo eigą ar mokymosi procesą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kurta saugumo, pagarbos ir komforto atmosfe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bus sudarytos sąlygos dalyviams patirti sėkmę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220500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Pranešimas, mokymai suaugusiems bus sėkmingesni jei: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C7E-E847-47EE-AB20-A5BEC4E2F8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2421000"/>
            <a:ext cx="8569440" cy="27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SIRENGIMAS KAL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2B25-0E57-4D80-B21D-64C8832CC9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s dalyvauj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ą jie nori išgir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dėl kalbėsiu ir ką noriu pasaky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iek laik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ur ir kokiomis sąlygo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kiomis priemonėm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lausimai į kuriuos reikia atsaky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F9A5-E774-468E-AB41-568CB525F2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240" y="1197000"/>
            <a:ext cx="9043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2. PASIRENGIMAS KALBAI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2923920"/>
            <a:ext cx="8785440" cy="34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Informav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apie objektus, įvykius, procesus, sąvokas)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Įtikinimo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atriotinės, politinės, moralinės etinės, justicinės, komercinė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Proginės 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(pristatymas, apdovanojimas, padėka, sveikinimas, tostas, pramoginė kalb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220500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200" spc="-1" strike="noStrike">
                <a:solidFill>
                  <a:srgbClr val="000000"/>
                </a:solidFill>
                <a:latin typeface="Arial"/>
              </a:rPr>
              <a:t>Kalbų rūš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9669-54C6-45FE-9302-C967730E11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9280" y="1628640"/>
            <a:ext cx="85694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3 dalis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ALBOS STRUKTŪR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Jūs lakūnas, o Jūsų kalba – lėktuvo pilotavimas PAKYLANT..., SKRENDANT... ir NUSILEIDŽIANT..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4508640"/>
            <a:ext cx="43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ĮŽA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VIDURINĖ (PAGRINDINĖ) D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ABAI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PERĖJIM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1B4B-77CA-415B-A420-1D56DF143B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2:29:57Z</dcterms:created>
  <dc:creator>Audrius</dc:creator>
  <dc:description/>
  <dc:language>en-US</dc:language>
  <cp:lastModifiedBy>Destytojas</cp:lastModifiedBy>
  <dcterms:modified xsi:type="dcterms:W3CDTF">2012-01-23T13:50:02Z</dcterms:modified>
  <cp:revision>222</cp:revision>
  <dc:subject/>
  <dc:title>Slide 1</dc:title>
</cp:coreProperties>
</file>