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B9B-9082-4A70-8254-4369602F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500-5B1D-4C05-B69B-128B65F3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8AF-A751-474F-B2E9-82DECEDC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F5C-C2E7-4674-95AB-E850DE29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E414-6D76-4BDF-8870-95FBCF46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0A98-754B-4A3F-A2CC-330DC921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C5E2-DB8C-480E-AE72-EBC455C5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F7BA-C4DE-4B19-89F6-52C97B5F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AD08-6918-4444-B0D0-DADB21BE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A04B-9DB6-4576-8E7E-524A115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C8C0-8A9D-49BA-AF93-B41F36F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722-439C-4E25-B377-DD1AF7AE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8760-C270-4960-A485-B1E3595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9FA7-052B-4D25-9371-3936C6E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5A4E-0C12-4F83-9AAD-EE466BB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7219-53F4-4AEB-8CDF-BA29F655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9F40-3DE7-47C6-9D09-64C033FD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4EB3-E171-4121-85C3-8B266D2F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1290-75DC-4345-911B-91A99FEA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B0B6-36D3-4BDC-9F90-33A72FF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1518-1153-4637-9FFD-927E2E7A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D5BB-B4AC-4FD0-BA8E-FD3CE59E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012-0E89-452F-BD5D-0CBCC927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386A-F6D9-496B-972D-44505824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56C9-FD16-4F20-BFD9-9A8E2D13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5488-0E7A-47BF-AB7B-43527D0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8651-F668-4C84-84C0-95D54BF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B86D-4486-4515-A668-D4A1556B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D0E5-4839-4936-94DB-8AEF01A3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4F2B-536A-4AA3-8248-CB1A3770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0B85D-1AD7-4804-8DF8-8207B19D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85A4-A58E-4930-9EF9-60348538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D23B-185D-4383-BE9F-A5A4A2C3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3F8-077B-46E5-9163-AD28306A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7A33-5771-437F-81F5-BC3BC496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7B99-A784-4CB9-BCCC-37AE1C56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ACFB-C6A1-4336-9957-130A8BD1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A471-B356-444D-B467-27E0D496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3848-410D-4F49-8A16-2CB4FB4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5026-53D9-49C9-8C8F-7C0E6561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7A76-6DAD-4FA0-B49A-F9070F77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494D-4C7C-46DA-AE84-EE75ADAD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375C3-84EA-4C08-98FD-634F60A0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497-DCF6-4A89-9611-5A333450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CF7-C8C0-4E59-B4EA-D2214C65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AC2-D5A6-4BBB-96B5-DF5014A4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06F-7D3B-4795-8050-72C00A3D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D8A-966C-49A6-8E35-449E3B49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aisva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Laisva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F931-B3E9-4D7A-B508-C3CC33F99B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ė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Laisva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Laisva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Laisva form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Laisva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aisva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Laisva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ė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Laisva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Laisva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Laisva form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Laisva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702-CC45-4BCA-9A46-6D44EE6B519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aisva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Laisva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ė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Laisva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Laisva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Laisva form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Laisva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0A7C-EC41-4168-93D0-A76F784BE7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Kvadratas su vienu įkirptu ir užapvalintu kampu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Statusis trikampis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Laisva form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Laisva form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0519-3887-4492-88FF-BE6700C3D9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Antraštė 1" descr=""/>
          <p:cNvPicPr/>
          <p:nvPr/>
        </p:nvPicPr>
        <p:blipFill>
          <a:blip r:embed="rId2"/>
          <a:stretch/>
        </p:blipFill>
        <p:spPr>
          <a:xfrm>
            <a:off x="304920" y="1365120"/>
            <a:ext cx="8442360" cy="3133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6092640"/>
            <a:ext cx="7855200" cy="601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Constantia"/>
              </a:rPr>
              <a:t>psichologė Laima Milkintaitė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Motyvacija bus efektyvi, jei bus įvertint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Individualios darbuotojų savybės: poreikiai, pažiūros, vertybės, interesa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Darbo/veiklos ypatybės: skirtingų įgūdžių būtinybė, užduočių įvairovė ir jų svarba, savarankiškumo laipsnis ir tobulėjimo būtinybė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Organizacijos ypatybės: taisyklės, skatinimo sistema, nuosta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os rūš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Išorinė – kai kas nors kitas priverčia (arba skatina) asmenį veikti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Vidinė – kai pats asmuo nori tai atlikti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Neigiama - kai norima išvengti veiksmo (orientuota į vengimą)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Teigiama – kai norima ką nors gauti, pasiekti tikslą (orientuota į tikslą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os sto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Constantia"/>
              </a:rPr>
              <a:t>Pasitikėjimo savimi stoka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: jei netikima, kad galima sulaukti sėkmės, kokia prasmė bandyti ką nors daryt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Constantia"/>
              </a:rPr>
              <a:t>Aiškumo stoka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: jei nežinoma, ko norima, reikia paklausti, ar iš tikrųjų ko nors norim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Constantia"/>
              </a:rPr>
              <a:t>Kryptingumo stoka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: jei nežinoma, ką norima veikti, kaip galima būti motyvuotam tai atlikt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Vidinės motyvacijos stiprin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5000"/>
            <a:ext cx="822960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Iššūkis – svarbu mesti sau iššūkį ir atlikti naujas užduot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Kontrolė – galimybė pasirinkti, ką norite veik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endradarbiavimas – galimybė dirbti bei padėti kitie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ripažinimas – sulaukti pripažinimo už atliktus darbus, pajusti, kad veikla prasming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Laimės pojūtis – žmonės, kuriems patinka jų darbas ir darbovietė, dažniau turi vidinę motyvacij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asitikėjimas kitais ir savimi – pasitikima, lengviau atrasti vidinę motyvacij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Savęs motyvav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Neigiamas emocijas pakeisti teigiamom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Suprasti, kad įsivaizduojamos problemos iš tiesų nėra tokios didelės, nelaikyti jų giliai širdyj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Problemas spręsti iš karto, neatidėlioti ir nuolat apie jas negalvo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Reikalingas vidinis nusiteikimas, kuris skatina atlikti veiklą/darbą kokybiška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Išugdyti savyje </a:t>
            </a:r>
            <a:r>
              <a:rPr b="1" lang="lt-LT" sz="2400" spc="-1" strike="noStrike">
                <a:solidFill>
                  <a:srgbClr val="000000"/>
                </a:solidFill>
                <a:latin typeface="Constantia"/>
              </a:rPr>
              <a:t>pareigos ir atsakomybės prieš patį save </a:t>
            </a: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jausm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Matyti galutinį rezultatą ir sąmoningai trokšti, kuo greičiau jį pasiekti. Būtina įsivaizduoti, ką norite pasiek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Gebėjimas save motyvuot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Ugdo charakterio savybes, kurios padeda siekti sėkmė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Didina asmenines ir darbines galimyb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Įveikiamos abejonės ir neryžtinguma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Įveikiamas neigiamas vidinis nusitatymas (pvz., konservatyvumas, permainų/pokyčių baimė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umažinamas nuolat persekiojantis stres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ą palaik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Rezultatas arba tiksl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Vizualizavimas (įsivaizdavimas tai, ko noriu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ėkminga praeit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Optimiz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Aplink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Teigiamas savęs vertin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endraminčia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ėkmės istori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Naujų dalykų mokymas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Nusiteik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Septynios motyvacijos taisyklė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Užsibrėžkite pagrindinį tikslą, bet jo siekite palaipsniu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aikite tai, ką pradėjot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endraukite su žmonėmis, kurie turi panašių interes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Mokykitės mokyt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Derinkite talentą su polinkiais, kurie motyvuoj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Įgykite tų dalykų žinių, kurie jus domina ir įkvep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riimkite iššūkį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Motyvacija  - tai vidinė ugnis. Jei kas nors bandys ją uždegti jumyse, tikėtina, kad ši ugnis degs labai trumpa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nstantia"/>
              </a:rPr>
              <a:t>Stephen R. Cove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nstantia"/>
              </a:rPr>
              <a:t>Vadovų centro įkūrėjas, ekspert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Antraštė 1" descr=""/>
          <p:cNvPicPr/>
          <p:nvPr/>
        </p:nvPicPr>
        <p:blipFill>
          <a:blip r:embed="rId2"/>
          <a:stretch/>
        </p:blipFill>
        <p:spPr>
          <a:xfrm>
            <a:off x="304920" y="1365120"/>
            <a:ext cx="8442360" cy="31338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9640" y="6092640"/>
            <a:ext cx="7855200" cy="601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Constantia"/>
              </a:rPr>
              <a:t>psichologė Laima Milkintaitė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Tam tikrų veiksmų seka, kurie skatina asmenybę siekti tiksl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Vidinė jėga, skatinanti atlikti tam tikrus veiksmus, susijusi su norais ir siekia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Noras pasiekti tikslą, entuziazmas tinkamai veikti, kad tikslas būtų įgyvendi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uteikia energijos ir asmenį nukreip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uotas elges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avanoriškas pasirinkimas, kurį asmenybė gali kontroliuot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askatos/stimulo, kuris yra verta dėmesio, radim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ūti motyvuotam – aiškiai žinoti, ko norima iš gyvenimo/veik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os atsirad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2046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Konkretus poreikis (reikmė, ko nors būtinumas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oreikis gali būti bet kas, ko asmeniui reikia, ko trokšta, kas jam yra nauding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Noras yra sąmoningas poreikio pripažin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4963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lt-LT" sz="4400" spc="-1" strike="noStrike">
                <a:solidFill>
                  <a:srgbClr val="04617b"/>
                </a:solidFill>
                <a:latin typeface="Calibri"/>
              </a:rPr>
              <a:t>Motyvacijos teorijos. </a:t>
            </a:r>
            <a:br>
              <a:rPr sz="4400"/>
            </a:br>
            <a:r>
              <a:rPr b="0" lang="lt-LT" sz="4400" spc="-1" strike="noStrike">
                <a:solidFill>
                  <a:srgbClr val="04617b"/>
                </a:solidFill>
                <a:latin typeface="Calibri"/>
              </a:rPr>
              <a:t>Maslow poreikių teorij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Fiziologiniai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augumo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Meilės ir priklausomybė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agarbo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aviraiška (savirealizacija, saviaktualizacija)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4617b"/>
                </a:solidFill>
                <a:latin typeface="Calibri"/>
              </a:rPr>
              <a:t>Poreikiai, kurie gali būti realizuojami darbe/veikloje. S.B. Kaverino klasifikacij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5000"/>
            <a:ext cx="822960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Pagarba ir pripažinim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Materialių poreikių patenkinimas (darbo užmokestis, apdovanojimai, premijos ir kt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Bendravimas, draugiški santykia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Pažinimas, naujų dalykų mokyma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Savęs pažinim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Saviraiška ir savigarb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Dalyvavimas bendroje veikloje (pasiekimai: įmonės, miesto, socialinės grupės, valstybė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Pasitenkinimas savim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Savirealizacija, pasitenkinimas gyvenim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Rezultatų siekimas, kliūčių įveikimas (atsiranda siekiant karjer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Motyvacijos teorijos. </a:t>
            </a:r>
            <a:br>
              <a:rPr sz="4500"/>
            </a:b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F. Hercbergo motyvacijos teorij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Higieniniai veiksniai – tie, kurie gali pašalinti nepasitenkinimą darbu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lt-LT" sz="2000" spc="-1" strike="noStrike">
                <a:solidFill>
                  <a:srgbClr val="000000"/>
                </a:solidFill>
                <a:latin typeface="Constantia"/>
              </a:rPr>
              <a:t>Darbo aplinkos veiksniai: organizacijos politika, saugumas, statusas, gamybiniai santykiai, darbo užmokestis, darbo sąlygos, kontrolė, administracijos elgesy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Motyvaciniai veiksniai – turintys įtakos pasitenkinimui: saviraiška, pažanga, atsakomybė, pripažinimas, sėkmė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Motyvacijos teorijos.</a:t>
            </a:r>
            <a:br>
              <a:rPr sz="4500"/>
            </a:b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Lūkesčių teorij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Lūkesčiai – tai pageidaujamų būsimų įvykių ar faktų, rezultatų apibūdinim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abrėžiama tarpusavyje susijusių ryšių svar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Darbo s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ąnaudos – rezulta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Rezultatai – atlyg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Atlygis – atlygio valentingu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Motyvacijos teorijos.</a:t>
            </a:r>
            <a:br>
              <a:rPr sz="4500"/>
            </a:b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Teisingumo teorij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Žmonės subjektyviai nustato santykį tarp įdėtų pastangų ir atlygio, po to jį sugretina su kitų žmonių atlygi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Kol darbuotojai nebus tikri, jog darbas yra atlyginamas teisingai, tol jie stengsis sumažinti darbo produktyvumą/efektyvum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Teisingumo suvokimas yra subjektyvus: žmogus lygina save su kitais organizacijos nariais arba kitų organizacijų darbuotojais, vykdančiais analogiškas funkcijas. Išeitis: privalu paaiškinti, kodėl skiriasi atlyginima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08:45:19Z</dcterms:created>
  <dc:creator>home</dc:creator>
  <dc:description/>
  <dc:language>en-US</dc:language>
  <cp:lastModifiedBy>SRPA</cp:lastModifiedBy>
  <dcterms:modified xsi:type="dcterms:W3CDTF">2011-08-08T12:06:28Z</dcterms:modified>
  <cp:revision>27</cp:revision>
  <dc:subject/>
  <dc:title>Veiklos motyvacija:  praktiniai būdai motyvacijos lygiui padidinti</dc:title>
</cp:coreProperties>
</file>